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E2D-F23D-4CC6-AB5B-9D372B60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7F3-1EE1-4E02-8A61-20551AE0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58E-E507-4F8D-8833-B3D02DC6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9A4-ACA9-4335-9739-26B22DA3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1453-8FE6-4C69-8BDB-CE4C0F27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D845-C03E-410F-9005-22017F88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E6D-E901-4E4D-9DB7-4BAE313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90A1-D3A6-429F-AB86-832ECB09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119E-A23F-40A1-AFA1-425FB7D8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3F6E-B747-4598-A055-34C1A182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BAE-A8E9-42DA-9AA3-6666384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5C6-996B-4643-9E96-A1327AE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DC7-2E48-489C-8648-98624C6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1AE-692C-46C8-B6C4-79F6543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4DF3-9731-46EA-866D-D931569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6A97-980B-43EB-869D-4FEE4E1A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7BC-8419-43F1-81B2-D0C5E5B5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1800-DB0E-46FC-9178-744671F1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CF07-AE41-4200-B6D6-7FEE6D8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04F9-0BEC-4A5C-AD81-DEEE67A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D8B6-5217-4119-9B8B-E1B1E90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DC97-9112-4D38-9BB0-089BE017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27A-7D76-43B2-B49B-9DE443D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174D-612F-44F7-857F-C993F2B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3BCB-2E7F-4F92-9DB8-B01F955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9933-22E4-455D-B41D-A354AD4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3B12-2AFD-43A3-B9A6-1942E7C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FF75-C488-48AE-A8BB-C4896AB2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7F08-22FD-4442-9A65-616D6F8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8C49-202E-4D58-92E3-F01CDBA9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F818-AB5D-46FC-A98A-CA53079D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F0DE-E932-4341-B510-65182AB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EB5F-9D74-4921-ABC0-3B91F8A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11D-528D-4074-B5D0-E2560BB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49006-363F-44DF-850B-D242059F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A62C-9694-4D1E-AC78-D27CB02F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1DF4-C91D-44C1-A6F6-99A0BB62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1CDD-53E5-4DE6-9FA5-2940584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9717-2918-41EF-AE35-8768583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5348-A620-423A-8852-D53DDBF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A207-8A50-43A6-9BEB-F0451F10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F414-14BF-4ABD-BF66-E3CB25DB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4E02-042D-4D53-B53E-28466332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2C47-96AF-4A0F-BBDC-A6F1AEAC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0AB-AD03-42AB-BCEC-4945867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35D6-AEC8-494F-B717-F8084A63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58B8F-0225-4348-A8C1-D0916A8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1C79-20AB-463B-B632-71FD098D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B46C-2164-4A2A-8A14-24232F23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17CA-78AC-4A8B-8FA4-A23F56A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74DFB-632A-4715-94EC-8684A22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5C67-67DC-41C1-B09C-AB1D834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7C36-550E-49C3-8F12-AD33443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5E7E-7B33-4C4E-A17D-A9E49431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41A8-7C62-4A5A-97A1-AECB88C5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FFC-9718-4E6D-A4AE-D66F489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DABF-037A-488C-8081-F005F75E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51C-BF8D-4A86-91B7-A0AD1F6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DA4-A763-43E2-B036-4969834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D31-B714-4241-8840-A9DD26D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0A5C1B-413D-4B99-B9F7-9F07441A38A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0FC355-C533-4955-A8BB-E1B9E47F6939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A438F2-0589-4483-9C9A-436B2AEF6A3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836E25-070F-433C-89A0-199D6F352655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8DBEA3-4412-40D5-8394-1B7A5FA6B75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Солнышко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79640" y="54936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PE03213_"/>
          <p:cNvPicPr/>
          <p:nvPr/>
        </p:nvPicPr>
        <p:blipFill>
          <a:blip r:embed="rId1"/>
          <a:stretch/>
        </p:blipFill>
        <p:spPr>
          <a:xfrm>
            <a:off x="468360" y="2924280"/>
            <a:ext cx="3255840" cy="3338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2955960"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700" spc="-1" strike="noStrike">
                <a:solidFill>
                  <a:srgbClr val="ff0000"/>
                </a:solidFill>
                <a:latin typeface="Century Schoolbook"/>
              </a:rPr>
              <a:t>В дружбе - </a:t>
            </a:r>
            <a:r>
              <a:rPr b="1" lang="ru-RU" sz="7700" spc="-1" strike="noStrike">
                <a:solidFill>
                  <a:srgbClr val="ff8d3e"/>
                </a:solidFill>
                <a:latin typeface="Century Schoolbook"/>
              </a:rPr>
              <a:t>     </a:t>
            </a:r>
            <a:r>
              <a:rPr b="1" lang="en-US" sz="7700" spc="-1" strike="noStrike">
                <a:solidFill>
                  <a:srgbClr val="ff8d3e"/>
                </a:solidFill>
                <a:latin typeface="Century Schoolbook"/>
              </a:rPr>
              <a:t>                  </a:t>
            </a:r>
            <a:endParaRPr b="1" lang="en-US" sz="7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347640" y="3500280"/>
            <a:ext cx="5545080" cy="2138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700" spc="-1" strike="noStrike">
                <a:solidFill>
                  <a:srgbClr val="ff0000"/>
                </a:solidFill>
                <a:latin typeface="Century Gothic"/>
              </a:rPr>
              <a:t>сила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826920" y="1197000"/>
            <a:ext cx="93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4427640" y="4581360"/>
            <a:ext cx="8395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8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6227640" y="549360"/>
            <a:ext cx="10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6948360" y="3141720"/>
            <a:ext cx="152100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971640" y="3645000"/>
            <a:ext cx="11221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492360" y="2205000"/>
            <a:ext cx="12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2268360" y="2205000"/>
            <a:ext cx="8398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8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3276720" y="234936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4427640" y="234936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724360" y="1989000"/>
            <a:ext cx="93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6804000" y="234936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1008000" y="2446200"/>
            <a:ext cx="93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з толкового словаря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ергея Ивановича Ожего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ужба – отношения, основанные на взаимном доверии, привязанности, общности интересов»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592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гра «Закончи пословиц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052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й сто рублей, а имей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 друзе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без друзей, что дерев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корне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ищи, а найдеш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г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живет корнями, а человек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зьям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, как стекло: разобьешь –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сложишь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есчасть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гра «Кто с кем дружит?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ctr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крокодил Гена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бурашка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чивый Буратино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львина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ной мишка Вини-Пух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ятачок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ый бурундук Чип 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Малыш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лсон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Звонкие голос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Любители - читател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Собиратели – издатели»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оны дружбы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 другу в бе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с другом разделить рад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йся над недостатками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 друга, если он делает что – то плох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ринять помощь, совет, не обижайся на крити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анывай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ризнать свои ошибки, помириться с друг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авай своего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сь к своему другу так, как тебе хотелось бы, чтобы относились к т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9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Verdana"/>
              </a:rPr>
              <a:t>Спасибо,</a:t>
            </a:r>
            <a:br>
              <a:rPr sz="9600"/>
            </a:br>
            <a:r>
              <a:rPr b="1" i="1" lang="ru-RU" sz="9600" spc="-1" strike="noStrike">
                <a:solidFill>
                  <a:srgbClr val="ff8d3e"/>
                </a:solidFill>
                <a:latin typeface="Verdana"/>
              </a:rPr>
              <a:t>что ты                 </a:t>
            </a:r>
            <a:r>
              <a:rPr b="1" i="1" lang="ru-RU" sz="9600" spc="-1" strike="noStrike">
                <a:solidFill>
                  <a:srgbClr val="ff0000"/>
                </a:solidFill>
                <a:latin typeface="Verdana"/>
              </a:rPr>
              <a:t>рядом</a:t>
            </a:r>
            <a:r>
              <a:rPr b="1" i="1" lang="ru-RU" sz="9600" spc="-1" strike="noStrike">
                <a:solidFill>
                  <a:srgbClr val="ff8d3e"/>
                </a:solidFill>
                <a:latin typeface="Verdana"/>
              </a:rPr>
              <a:t>!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32:14Z</dcterms:created>
  <dc:creator>1</dc:creator>
  <dc:description/>
  <cp:keywords/>
  <dc:language>en-US</dc:language>
  <cp:lastModifiedBy>User</cp:lastModifiedBy>
  <dcterms:modified xsi:type="dcterms:W3CDTF">2021-10-15T09:00:42Z</dcterms:modified>
  <cp:revision>31</cp:revision>
  <dc:subject/>
  <dc:title>Давайте жить дружно!</dc:title>
</cp:coreProperties>
</file>